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311A-0F02-46A1-8AFD-C969B6DA6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8E81-6937-4A14-9436-7725B1A2E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9140-6C65-4E45-8BDD-8488F0D23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2F6B-CE54-4F19-AFEF-8021E05A4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7E3-730E-4870-B4AC-3F28F470D1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DE4-AA51-4086-B968-A234C8B11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B12-F119-446F-ABC1-1AB3752AE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9CD-81B1-451A-8A27-8EF3AC376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AF6-C1F3-4FC1-B549-0F5C7D481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C2A-DB08-4422-91A6-C1DF1DB6A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6C2-5552-48D8-B5D4-62B84A7EF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D11D-EFB9-4D39-BDD6-A4835E305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955-E4BE-4E7F-B723-FF190BA4C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4C7-08BA-4C41-BBA7-432A99F56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078-E85C-48B1-9AC3-78A7F1F32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B52-D075-403B-9C7C-F22CC2ADE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059-0B98-49F5-8047-0E82A10E5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15EF-B22C-4A36-97F4-92D233FDB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C8A1-7F85-44FF-ADBB-44358A64A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530D-D35D-4184-ADF5-9D5E9B526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5366-00E2-42EF-9CDA-E2A7915C2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871E-3A67-401E-8AB1-A90C27EBB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7E21-5124-4F55-940B-8F284CE43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3204-BEDB-4450-8E0C-2DD521A96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20F-53F5-4357-B6C8-952B6134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5320" y="6585120"/>
            <a:ext cx="6019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B33-8ECE-4C68-BA80-64EAFF05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A6B-71D9-4062-976D-715D8BD4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57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 System Networks Co.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364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3 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4089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.1.0.0.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X-TGP600/HDV1xx/HDV230/HDV330 s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guration File Check Tool Manu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1016-76E0-4F3F-8923-BB9D1ED46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42960" y="900000"/>
            <a:ext cx="83869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scribes abo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file check t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91960" y="43164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about thi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99880" y="1311120"/>
            <a:ext cx="24526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ion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4600" y="1676520"/>
          <a:ext cx="8204040" cy="3133440"/>
        </p:xfrm>
        <a:graphic>
          <a:graphicData uri="http://schemas.openxmlformats.org/drawingml/2006/table">
            <a:tbl>
              <a:tblPr/>
              <a:tblGrid>
                <a:gridCol w="1270080"/>
                <a:gridCol w="1296720"/>
                <a:gridCol w="2125800"/>
                <a:gridCol w="351144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mware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5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1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19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61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64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13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3,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98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2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32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330 (01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35"/>
          <p:cNvSpPr/>
          <p:nvPr/>
        </p:nvSpPr>
        <p:spPr>
          <a:xfrm>
            <a:off x="328680" y="5137200"/>
            <a:ext cx="8461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NET is registered trademarks or trademarks of Microsoft Corp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United States and/or other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product screen shot(s) reprinted with permission from Microsoft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trademarks identified herein are the property of their respective ow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0ABC-E5BA-48F1-9833-91B17AAF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52600" y="182088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8640" y="4737240"/>
            <a:ext cx="8393400" cy="1361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・ 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soft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®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.NET Framework(4.5)” is required for installation and use of this tool.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(Other versions doesn’t support this tool)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For details, please refer to the information of Microsoft Corp.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52600" y="277812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How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52600" y="373536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How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5587920" y="1154160"/>
            <a:ext cx="2914560" cy="220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"/>
          <p:cNvPicPr/>
          <p:nvPr/>
        </p:nvPicPr>
        <p:blipFill>
          <a:blip r:embed="rId2"/>
          <a:stretch/>
        </p:blipFill>
        <p:spPr>
          <a:xfrm>
            <a:off x="463680" y="4102200"/>
            <a:ext cx="2950920" cy="2227320"/>
          </a:xfrm>
          <a:prstGeom prst="rect">
            <a:avLst/>
          </a:prstGeom>
          <a:ln w="0">
            <a:noFill/>
          </a:ln>
        </p:spPr>
      </p:pic>
      <p:sp>
        <p:nvSpPr>
          <p:cNvPr id="104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A0E-AF6F-4DFA-9769-55FA2126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How to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47960" y="62244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Execute the “setupVx_x_x_x.ex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43640" y="3632040"/>
            <a:ext cx="30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Select a Destination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65080" y="62244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グループ化 1"/>
          <p:cNvGrpSpPr/>
          <p:nvPr/>
        </p:nvGrpSpPr>
        <p:grpSpPr>
          <a:xfrm>
            <a:off x="501480" y="1211400"/>
            <a:ext cx="2951280" cy="2239920"/>
            <a:chOff x="501480" y="1211400"/>
            <a:chExt cx="2951280" cy="2239920"/>
          </a:xfrm>
        </p:grpSpPr>
        <p:pic>
          <p:nvPicPr>
            <p:cNvPr id="111" name="Picture 20" descr=""/>
            <p:cNvPicPr/>
            <p:nvPr/>
          </p:nvPicPr>
          <p:blipFill>
            <a:blip r:embed="rId3"/>
            <a:stretch/>
          </p:blipFill>
          <p:spPr>
            <a:xfrm>
              <a:off x="501480" y="1211400"/>
              <a:ext cx="295128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13"/>
            <p:cNvSpPr/>
            <p:nvPr/>
          </p:nvSpPr>
          <p:spPr>
            <a:xfrm>
              <a:off x="2275200" y="3214080"/>
              <a:ext cx="581040" cy="209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6"/>
          <p:cNvSpPr/>
          <p:nvPr/>
        </p:nvSpPr>
        <p:spPr>
          <a:xfrm>
            <a:off x="2784600" y="4711680"/>
            <a:ext cx="581040" cy="20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257560" y="608184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7353360" y="312732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76B-2095-4617-91D6-746ECE1BE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How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39760" y="801720"/>
            <a:ext cx="790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Click “Launch cfg_checktool.exe” on the desk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nother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ecutable file is stored in the following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:¥Program Files¥SIP-Phone_cfgchecktool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cfg_checktool.exe” in above f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985680" y="2682720"/>
            <a:ext cx="42195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576360" y="2273400"/>
            <a:ext cx="4878360" cy="3009960"/>
          </a:xfrm>
          <a:prstGeom prst="rect">
            <a:avLst/>
          </a:prstGeom>
          <a:ln w="0">
            <a:noFill/>
          </a:ln>
        </p:spPr>
      </p:pic>
      <p:sp>
        <p:nvSpPr>
          <p:cNvPr id="122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3BC5-A0D8-4C1E-B4A2-73C8D218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41200" y="803160"/>
            <a:ext cx="79059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elect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Input the configuration file name directly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File open” and select the configuration file from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lick “Start check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754600" y="2301840"/>
            <a:ext cx="273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electabl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TGP60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1xx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2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3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302080" y="4500720"/>
            <a:ext cx="165420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09480" y="5321160"/>
            <a:ext cx="460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If you want to save the result, check “Save the check resul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*You can not select the firmware version. (It is backward compatibl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038560" y="4824360"/>
            <a:ext cx="111600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898640" y="2851200"/>
            <a:ext cx="3328920" cy="279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866880" y="4032360"/>
            <a:ext cx="4360680" cy="93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2"/>
          <a:stretch/>
        </p:blipFill>
        <p:spPr>
          <a:xfrm>
            <a:off x="6154560" y="4968720"/>
            <a:ext cx="1619280" cy="1132200"/>
          </a:xfrm>
          <a:prstGeom prst="rect">
            <a:avLst/>
          </a:prstGeom>
          <a:ln w="0">
            <a:noFill/>
          </a:ln>
        </p:spPr>
      </p:pic>
      <p:sp>
        <p:nvSpPr>
          <p:cNvPr id="133" name="Line 16"/>
          <p:cNvSpPr/>
          <p:nvPr/>
        </p:nvSpPr>
        <p:spPr>
          <a:xfrm flipV="1">
            <a:off x="5227560" y="2531880"/>
            <a:ext cx="558720" cy="441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09480" y="5056200"/>
            <a:ext cx="1289160" cy="22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"/>
          <p:cNvPicPr/>
          <p:nvPr/>
        </p:nvPicPr>
        <p:blipFill>
          <a:blip r:embed="rId1"/>
          <a:stretch/>
        </p:blipFill>
        <p:spPr>
          <a:xfrm>
            <a:off x="942840" y="3284640"/>
            <a:ext cx="391500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B033-904C-4616-B92C-50EFA32B1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79360" y="546120"/>
            <a:ext cx="21495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57200" y="89856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errors line is displayed. (The checker shows only error lin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28600" y="4307040"/>
            <a:ext cx="71136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31840" y="4613400"/>
            <a:ext cx="71100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857840" y="425592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8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Space” is including in the valu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861080" y="464184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9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Line feed” is miss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1943280" y="4357800"/>
            <a:ext cx="85680" cy="16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2492280" y="4641840"/>
            <a:ext cx="1886040" cy="190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0" descr=""/>
          <p:cNvPicPr/>
          <p:nvPr/>
        </p:nvPicPr>
        <p:blipFill>
          <a:blip r:embed="rId2"/>
          <a:stretch/>
        </p:blipFill>
        <p:spPr>
          <a:xfrm>
            <a:off x="606600" y="1235160"/>
            <a:ext cx="50940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905040" y="1806480"/>
            <a:ext cx="358128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9EB-7CC1-42CE-8CAA-A094D333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57200" y="898560"/>
            <a:ext cx="80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configuration file was modified the following, it passed the chec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820880" y="3046320"/>
            <a:ext cx="27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63640" y="3489480"/>
            <a:ext cx="1577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2"/>
          <a:stretch/>
        </p:blipFill>
        <p:spPr>
          <a:xfrm>
            <a:off x="5029200" y="1806480"/>
            <a:ext cx="16192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永野</cp:lastModifiedBy>
  <dcterms:modified xsi:type="dcterms:W3CDTF">2016-02-03T07:45:5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